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6B5-90CD-4310-9C1F-84145025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FEB-D7CA-4B75-85D8-C1290D0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613-B4CA-4423-8AE8-DA002C7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398-05B8-4388-875C-5DC5F638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C99-42F9-4048-9D04-3DDD531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734-DB1F-4F73-A4CB-6026616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181-4C8B-48AF-AAAB-7F2CA64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B69-50FD-4372-B64D-385589EF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ACE-141F-495B-98F0-091BD54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217-B2B2-4A2D-922F-DE65250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8AD-AD7C-44F0-B182-F1967EC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336-6700-442C-923E-F0CB848A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64B-D541-4160-A7E7-E8EEB2D8D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457200"/>
            <a:ext cx="501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icolas Copernicu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8108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olas Copernicus was born in Poland in 1473 and passed away in 154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is something a bit more to him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1828800"/>
            <a:ext cx="5333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James Cooper 9A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ferences:Enca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.uk/pla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1219320"/>
            <a:ext cx="6095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762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was sent of to Cracow University to study Maths and op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5486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a Street in Cracow. Cracow is in Po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njoyed translating Greek poems into Lat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a boring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does prove he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3434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JUS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njoyed shooting and he shot his wif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240360" cy="168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e by Andrew Barn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5335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then was appointed as a ca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5181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cannon, a canon. It’s a sort of priest or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5335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e Revolutionib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98108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this is the important 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out that the the moon rotates around the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562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1430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at the Earth orbits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800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533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made a model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45720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sort of shows planets orbiting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another closer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4572000" cy="335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3733920"/>
            <a:ext cx="1828800" cy="14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sh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200" y="762120"/>
            <a:ext cx="5715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’s what Nico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pernicus d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so he was the first  to describe the heliocentric model of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60958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EVER THAT MEAN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48:29Z</dcterms:created>
  <dc:creator>Autorised User</dc:creator>
  <dc:description/>
  <dc:language>en-US</dc:language>
  <cp:lastModifiedBy>Autorised User</cp:lastModifiedBy>
  <dcterms:modified xsi:type="dcterms:W3CDTF">2002-02-01T14:41:06Z</dcterms:modified>
  <cp:revision>3</cp:revision>
  <dc:subject/>
  <dc:title> </dc:title>
</cp:coreProperties>
</file>