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74C-E047-4885-9349-CB91FE73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50D-5EF9-4DAC-BC11-4EBFD76C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B8E-0F6F-4CCE-BDDF-2ED64F90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3DE-62A7-4984-B2C7-5E7974DE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EAF-8A3A-4A49-8F56-9E33E0BB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1A5-1ACE-4B0B-8ACE-D26C2BB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9B9-6B12-4DB3-B371-2D1951C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546-633C-472D-B659-5B1AC0B4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69F-B08E-4729-A6F7-9F56DA47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4C0-C772-48D2-A262-FECC207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D74-4B71-4829-B07C-16164887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24C-353A-4270-A61B-6B09FC9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546F-5803-4603-8522-BCEB48B5A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457200"/>
            <a:ext cx="501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icolas Copernicu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81080"/>
            <a:ext cx="7162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olas Copernicus was born in Poland in 1473 and passed away in 154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is something a bit more to him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6520" y="1828800"/>
            <a:ext cx="5333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James Cooper 9A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ferences:Enca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.uk/pla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1219320"/>
            <a:ext cx="60958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762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was sent of to Cracow University to study Maths and op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5486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a Street in Cracow. Cracow is in Po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enjoyed translating Greek poems into Lat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bout a boring hob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does prove he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3434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JUS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enjoyed shooting and he shot his wif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240360" cy="168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71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ke by Andrew Barn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5335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then was appointed as a can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3352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5181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cannon, a canon. It’s a sort of priest or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533520"/>
            <a:ext cx="7619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e Revolutionib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98108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this is the important 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found out that the the moon rotates around the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62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11430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at the Earth orbits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11480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1800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5335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made a model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45720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sort of shows planets orbiting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ke another closer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4572000" cy="335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3733920"/>
            <a:ext cx="1828800" cy="14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so sh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0200" y="762120"/>
            <a:ext cx="5715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’s what Nico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pernicus d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so he was the first  to describe the heliocentric model of our Solar Syst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60958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EVER THAT MEAN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48:29Z</dcterms:created>
  <dc:creator>Autorised User</dc:creator>
  <dc:description/>
  <dc:language>en-US</dc:language>
  <cp:lastModifiedBy>Autorised User</cp:lastModifiedBy>
  <dcterms:modified xsi:type="dcterms:W3CDTF">2002-02-01T14:41:06Z</dcterms:modified>
  <cp:revision>3</cp:revision>
  <dc:subject/>
  <dc:title> </dc:title>
</cp:coreProperties>
</file>