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3BAF-B773-4290-9EDF-4E1A3D173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A127-612E-4882-9AED-5308FDBB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B561-9725-474C-8454-B1C2AD05F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F056-06F8-40C4-A5AD-CADACB24D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EF2F-25F8-482F-9AD7-D89EE9EC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4F99-DC62-49DB-ADBF-38508186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395F-9AE7-432F-9846-29A74D21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15AC-2BB0-4A5D-951C-D67A82AF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2350-D339-402D-A7C3-7934FB91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BB56-E4BA-40EC-82CA-E7C9097D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65AC-6AAB-4499-82ED-33715901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B2DC-0247-4B05-96AC-37512493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C4F3-CF96-4418-90FD-00C6D7328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P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160" y="17524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480" y="2133720"/>
            <a:ext cx="3581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ohannes Kepler was a German astronomer and natural philosopher who was known for his ability in formulating and verifying the three laws of planetary mo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P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3809880" cy="2798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se laws are now known as Keplers La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studied theology and classics at the university in Tubing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P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12760" y="1981080"/>
            <a:ext cx="2954520" cy="4114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ile he was at this University he studied the Copernicun the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n he left the university to go to Graz in Austria he worked on a complex geometric hypothe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P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2255760"/>
            <a:ext cx="3809880" cy="35654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was Tycho Brahe’s assistant at the observatory near Prague.While he was in Prague he wrote one of his many boo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P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2465280"/>
            <a:ext cx="3809880" cy="31464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ter he moved to Linz where he became mathematician to the states of Oberosterreich ( upper Austria 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ile living there he wrote another boo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1T14:55:58Z</dcterms:created>
  <dc:creator>Autorised User</dc:creator>
  <dc:description/>
  <dc:language>en-US</dc:language>
  <cp:lastModifiedBy>Autorised User</cp:lastModifiedBy>
  <dcterms:modified xsi:type="dcterms:W3CDTF">2002-02-01T15:25:08Z</dcterms:modified>
  <cp:revision>2</cp:revision>
  <dc:subject/>
  <dc:title>KEPLER</dc:title>
</cp:coreProperties>
</file>