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D3C-5932-4D50-81F6-A7B028F0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A0A-D1D3-480C-A76F-A29417DC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BBA-1571-4410-AF16-EC1DF856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94C-24B5-4759-8D06-BC72136E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9E7-7F96-4E78-9E7C-FABDD0DC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610-2C8B-40AF-9EE6-CE548D0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92D-C3C0-43F9-8B5A-2986602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8FC-82E3-4D12-9B40-158F695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482-E0DD-42A0-BC19-3EA9DBD1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20F-4085-496F-9DA9-B476AB2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144-D64A-4A75-8BCA-73EF98E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373-1998-48D0-9D9D-A7DA30E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8C3D-D76B-479D-B750-3C53F611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160" y="17524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2133720"/>
            <a:ext cx="35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hannes Kepler was a German astronomer and natural philosopher who was known for his ability in formulating and verifying the three laws of planetary mo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laws are now known as Keplers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studied theology and classics at the university in Tubin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2760" y="1981080"/>
            <a:ext cx="295452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he was at this University he studied the Copernicun the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he left the university to go to Graz in Austria he worked on a complex geometric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255760"/>
            <a:ext cx="3809880" cy="3565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as Tycho Brahe’s assistant at the observatory near Prague.While he was in Prague he wrote one of his many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465280"/>
            <a:ext cx="3809880" cy="3146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ter he moved to Linz where he became mathematician to the states of Oberosterreich ( upper Austri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living there he wrote another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4:55:58Z</dcterms:created>
  <dc:creator>Autorised User</dc:creator>
  <dc:description/>
  <dc:language>en-US</dc:language>
  <cp:lastModifiedBy>Autorised User</cp:lastModifiedBy>
  <dcterms:modified xsi:type="dcterms:W3CDTF">2002-02-01T15:25:08Z</dcterms:modified>
  <cp:revision>2</cp:revision>
  <dc:subject/>
  <dc:title>KEPLER</dc:title>
</cp:coreProperties>
</file>