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5.wmf" ContentType="image/x-wmf"/>
  <Override PartName="/ppt/media/image10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6A9-146C-4EBE-A063-7E843625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AEB-E69C-4B67-BED8-F3E8E81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34D-EBD2-4A28-993B-F01A4E1E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DCC-6B6E-4BDD-BC85-6B09F99A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432-F05E-47EA-8FAE-51EE554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1F-1CBC-453D-B1BA-FFA61EC2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D21-055F-44BA-BC8E-51A4084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94A-DB5C-4CE1-9120-7D95999F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D6F-FE3B-4AD4-8A68-2A36046F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1B6-CB96-4118-9249-1DAA1C3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866-BF10-41E0-930A-FAE6330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445-148D-49AD-95E2-782DFA7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A762-9B41-467C-8330-319FEED9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6360" y="46483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1642 -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419720" y="2286000"/>
          <a:ext cx="5487840" cy="82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286000"/>
                    <a:ext cx="548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70760" cy="29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981080" y="4648320"/>
          <a:ext cx="5275440" cy="122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648320"/>
                    <a:ext cx="527544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743200"/>
          <a:ext cx="548784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54878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895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43828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762120" y="3809880"/>
          <a:ext cx="5275080" cy="240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9880"/>
                    <a:ext cx="52750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62120" y="1676520"/>
            <a:ext cx="157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7040" y="1905120"/>
          <a:ext cx="888696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905120"/>
                    <a:ext cx="888696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920" y="2895480"/>
          <a:ext cx="8505720" cy="1224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895480"/>
                    <a:ext cx="8505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8600" y="3886200"/>
          <a:ext cx="9448920" cy="276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94489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0574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62520" y="1905120"/>
            <a:ext cx="445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Microsoft Encar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2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4038480"/>
            <a:ext cx="441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isaacnewton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57600" y="5867280"/>
            <a:ext cx="5143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eduweb.com/new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40:04Z</dcterms:created>
  <dc:creator>Autorised User</dc:creator>
  <dc:description/>
  <dc:language>en-US</dc:language>
  <cp:lastModifiedBy>Autorised User</cp:lastModifiedBy>
  <dcterms:modified xsi:type="dcterms:W3CDTF">2002-02-01T14:56:54Z</dcterms:modified>
  <cp:revision>2</cp:revision>
  <dc:subject/>
  <dc:title>Sir Isaac Newton</dc:title>
</cp:coreProperties>
</file>