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2.wmf" ContentType="image/x-wmf"/>
  <Override PartName="/ppt/media/image6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media/image5.wmf" ContentType="image/x-wmf"/>
  <Override PartName="/ppt/media/image10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70B-A697-4786-A9C5-0789B241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776-0B79-485E-B59B-8805643C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C3C-FA20-4726-BF36-F749F4F5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070-1A1C-4A41-946A-7BE245C9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95A-83B9-44B9-B082-B8DCB0F5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D43-66B6-4E57-8006-0E18DB5C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B60-8247-40C2-967D-CF4C635F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D41-FEB1-4490-B301-478231D4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D13-2B6B-4B71-96D9-2B047B87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EFE-FD9B-4D7D-8239-A40AB8E9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94E-4153-48F6-B692-9AB74082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937-E12E-44D0-B2E6-EB637604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9406-8D8F-4602-BC31-04EC00D52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r Isaac New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1820880" cy="2209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6360" y="46483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1642 - 17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419720" y="2286000"/>
          <a:ext cx="5487840" cy="826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2286000"/>
                    <a:ext cx="54878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72000" y="419112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r Isaac New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270760" cy="29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981080" y="4648320"/>
          <a:ext cx="5275440" cy="122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4648320"/>
                    <a:ext cx="527544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r Isaac New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2743200"/>
          <a:ext cx="5487840" cy="383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743200"/>
                    <a:ext cx="548784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943600" y="1981080"/>
            <a:ext cx="2895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r Isaac New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43828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762120" y="3809880"/>
          <a:ext cx="5275080" cy="240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809880"/>
                    <a:ext cx="527508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62120" y="1676520"/>
            <a:ext cx="1574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r Isaac New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7040" y="1905120"/>
          <a:ext cx="8886960" cy="103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905120"/>
                    <a:ext cx="888696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04920" y="2895480"/>
          <a:ext cx="8505720" cy="1224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895480"/>
                    <a:ext cx="8505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28600" y="3886200"/>
          <a:ext cx="9448920" cy="2765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886200"/>
                    <a:ext cx="944892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791320" y="358128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r Isaac New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0574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62520" y="1905120"/>
            <a:ext cx="4457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Microsoft Encar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20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4038480"/>
            <a:ext cx="441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isaacnewton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657600" y="5867280"/>
            <a:ext cx="5143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eduweb.com/newt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4:40:04Z</dcterms:created>
  <dc:creator>Autorised User</dc:creator>
  <dc:description/>
  <dc:language>en-US</dc:language>
  <cp:lastModifiedBy>Autorised User</cp:lastModifiedBy>
  <dcterms:modified xsi:type="dcterms:W3CDTF">2002-02-01T14:56:54Z</dcterms:modified>
  <cp:revision>2</cp:revision>
  <dc:subject/>
  <dc:title>Sir Isaac Newton</dc:title>
</cp:coreProperties>
</file>