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A5E2-1941-4A96-89D0-07DB9EE2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2DD9-849D-49A1-982C-4413F968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2ADE-2418-4828-91C8-40FC4289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4E86-553B-44BE-A5BA-1D64D3BDF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62C0-EBAA-4E74-A22F-EBB32C3E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446D-CDE7-4659-AB6D-3F3842B7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CCAA-4FE3-4AF1-B576-10AD41DA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47DA-1C13-4086-A1C3-2D36EA77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990C-80E8-4340-8190-99BBF322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B3B4-FB4F-4D8C-A90C-DAA814A2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E60D-FD79-4FA8-8C36-EE74B655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6BA7-FE74-4B03-9A56-292F74AF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50000">
              <a:srgbClr val="0000ff"/>
            </a:gs>
            <a:gs pos="100000">
              <a:srgbClr val="0000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3043-3610-4272-AAB9-C4BF9CA3BC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50000">
              <a:srgbClr val="0000ff"/>
            </a:gs>
            <a:gs pos="100000">
              <a:srgbClr val="0000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Times New Roman"/>
              </a:rPr>
              <a:t>Carl Sagan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86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y Daniel Drew 9A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124080" y="1371600"/>
          <a:ext cx="28926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371600"/>
                    <a:ext cx="28926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50000">
              <a:srgbClr val="0000ff"/>
            </a:gs>
            <a:gs pos="100000">
              <a:srgbClr val="0000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99880"/>
            <a:ext cx="888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rl was always supporting and contributing towards projects using radio telescopes to search for extraterrestrial sign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348160" cy="3983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68800" y="5942520"/>
            <a:ext cx="78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e also discovered it was a very good way of cooking nood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50000">
              <a:srgbClr val="0000ff"/>
            </a:gs>
            <a:gs pos="100000">
              <a:srgbClr val="0000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895480" y="1542960"/>
            <a:ext cx="3770280" cy="23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presentation on Carl Sag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1934-199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ferences:www.sciam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ww.BBC.co.uk/plan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50000">
              <a:srgbClr val="0000ff"/>
            </a:gs>
            <a:gs pos="100000">
              <a:srgbClr val="0000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arl Contributed to most of the unmanned missions that explored our solar system , and go on exploring the galaxy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s they continue on tearing through spac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209680" y="1600200"/>
          <a:ext cx="4781520" cy="36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600200"/>
                    <a:ext cx="478152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990720" y="54864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d probably smash into the nearest star, or get blown up by rubbery faced aliens in big warships , but that’s not important… . . .  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50000">
              <a:srgbClr val="0000ff"/>
            </a:gs>
            <a:gs pos="100000">
              <a:srgbClr val="0000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3808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se include the voyager probes , and the Mariner 9 spacecraft which transmitted the first detailed images shown Mars ,as a dull desolate, boring and down-right average plane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286000" y="1600200"/>
          <a:ext cx="4114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600200"/>
                    <a:ext cx="4114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" name=""/>
          <p:cNvGrpSpPr/>
          <p:nvPr/>
        </p:nvGrpSpPr>
        <p:grpSpPr>
          <a:xfrm>
            <a:off x="3544920" y="2681280"/>
            <a:ext cx="1465200" cy="1903320"/>
            <a:chOff x="3544920" y="2681280"/>
            <a:chExt cx="1465200" cy="1903320"/>
          </a:xfrm>
        </p:grpSpPr>
        <p:sp>
          <p:nvSpPr>
            <p:cNvPr id="53" name=""/>
            <p:cNvSpPr/>
            <p:nvPr/>
          </p:nvSpPr>
          <p:spPr>
            <a:xfrm>
              <a:off x="3544920" y="2681280"/>
              <a:ext cx="371520" cy="334800"/>
            </a:xfrm>
            <a:custGeom>
              <a:avLst/>
              <a:gdLst/>
              <a:ahLst/>
              <a:rect l="l" t="t" r="r" b="b"/>
              <a:pathLst>
                <a:path w="234" h="211">
                  <a:moveTo>
                    <a:pt x="56" y="22"/>
                  </a:moveTo>
                  <a:cubicBezTo>
                    <a:pt x="45" y="33"/>
                    <a:pt x="29" y="41"/>
                    <a:pt x="23" y="55"/>
                  </a:cubicBezTo>
                  <a:cubicBezTo>
                    <a:pt x="20" y="62"/>
                    <a:pt x="0" y="150"/>
                    <a:pt x="23" y="166"/>
                  </a:cubicBezTo>
                  <a:cubicBezTo>
                    <a:pt x="48" y="183"/>
                    <a:pt x="82" y="181"/>
                    <a:pt x="112" y="189"/>
                  </a:cubicBezTo>
                  <a:cubicBezTo>
                    <a:pt x="165" y="184"/>
                    <a:pt x="234" y="211"/>
                    <a:pt x="234" y="144"/>
                  </a:cubicBezTo>
                  <a:cubicBezTo>
                    <a:pt x="234" y="84"/>
                    <a:pt x="231" y="53"/>
                    <a:pt x="178" y="22"/>
                  </a:cubicBezTo>
                  <a:cubicBezTo>
                    <a:pt x="158" y="10"/>
                    <a:pt x="112" y="0"/>
                    <a:pt x="112" y="0"/>
                  </a:cubicBezTo>
                  <a:cubicBezTo>
                    <a:pt x="97" y="4"/>
                    <a:pt x="79" y="1"/>
                    <a:pt x="67" y="11"/>
                  </a:cubicBezTo>
                  <a:cubicBezTo>
                    <a:pt x="54" y="21"/>
                    <a:pt x="56" y="74"/>
                    <a:pt x="56" y="22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37160" y="2744640"/>
              <a:ext cx="372960" cy="400320"/>
            </a:xfrm>
            <a:custGeom>
              <a:avLst/>
              <a:gdLst/>
              <a:ahLst/>
              <a:rect l="l" t="t" r="r" b="b"/>
              <a:pathLst>
                <a:path w="235" h="252">
                  <a:moveTo>
                    <a:pt x="135" y="4"/>
                  </a:moveTo>
                  <a:cubicBezTo>
                    <a:pt x="0" y="19"/>
                    <a:pt x="31" y="0"/>
                    <a:pt x="13" y="126"/>
                  </a:cubicBezTo>
                  <a:cubicBezTo>
                    <a:pt x="17" y="145"/>
                    <a:pt x="14" y="166"/>
                    <a:pt x="24" y="182"/>
                  </a:cubicBezTo>
                  <a:cubicBezTo>
                    <a:pt x="42" y="211"/>
                    <a:pt x="78" y="225"/>
                    <a:pt x="102" y="249"/>
                  </a:cubicBezTo>
                  <a:cubicBezTo>
                    <a:pt x="200" y="237"/>
                    <a:pt x="208" y="252"/>
                    <a:pt x="235" y="171"/>
                  </a:cubicBezTo>
                  <a:cubicBezTo>
                    <a:pt x="234" y="164"/>
                    <a:pt x="225" y="89"/>
                    <a:pt x="213" y="71"/>
                  </a:cubicBezTo>
                  <a:cubicBezTo>
                    <a:pt x="204" y="58"/>
                    <a:pt x="193" y="46"/>
                    <a:pt x="179" y="38"/>
                  </a:cubicBezTo>
                  <a:cubicBezTo>
                    <a:pt x="120" y="5"/>
                    <a:pt x="87" y="28"/>
                    <a:pt x="135" y="4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53000" y="3936960"/>
              <a:ext cx="1257120" cy="647640"/>
            </a:xfrm>
            <a:custGeom>
              <a:avLst/>
              <a:gdLst/>
              <a:ahLst/>
              <a:rect l="l" t="t" r="r" b="b"/>
              <a:pathLst>
                <a:path w="792" h="408">
                  <a:moveTo>
                    <a:pt x="3" y="375"/>
                  </a:moveTo>
                  <a:cubicBezTo>
                    <a:pt x="7" y="323"/>
                    <a:pt x="6" y="271"/>
                    <a:pt x="14" y="220"/>
                  </a:cubicBezTo>
                  <a:cubicBezTo>
                    <a:pt x="36" y="88"/>
                    <a:pt x="273" y="49"/>
                    <a:pt x="381" y="31"/>
                  </a:cubicBezTo>
                  <a:cubicBezTo>
                    <a:pt x="474" y="0"/>
                    <a:pt x="575" y="26"/>
                    <a:pt x="670" y="42"/>
                  </a:cubicBezTo>
                  <a:cubicBezTo>
                    <a:pt x="685" y="57"/>
                    <a:pt x="701" y="70"/>
                    <a:pt x="714" y="86"/>
                  </a:cubicBezTo>
                  <a:cubicBezTo>
                    <a:pt x="731" y="107"/>
                    <a:pt x="759" y="153"/>
                    <a:pt x="759" y="153"/>
                  </a:cubicBezTo>
                  <a:cubicBezTo>
                    <a:pt x="777" y="207"/>
                    <a:pt x="778" y="264"/>
                    <a:pt x="792" y="320"/>
                  </a:cubicBezTo>
                  <a:cubicBezTo>
                    <a:pt x="785" y="342"/>
                    <a:pt x="789" y="372"/>
                    <a:pt x="770" y="386"/>
                  </a:cubicBezTo>
                  <a:cubicBezTo>
                    <a:pt x="759" y="394"/>
                    <a:pt x="755" y="364"/>
                    <a:pt x="748" y="353"/>
                  </a:cubicBezTo>
                  <a:cubicBezTo>
                    <a:pt x="677" y="232"/>
                    <a:pt x="791" y="408"/>
                    <a:pt x="681" y="242"/>
                  </a:cubicBezTo>
                  <a:cubicBezTo>
                    <a:pt x="631" y="167"/>
                    <a:pt x="542" y="152"/>
                    <a:pt x="459" y="131"/>
                  </a:cubicBezTo>
                  <a:cubicBezTo>
                    <a:pt x="357" y="137"/>
                    <a:pt x="251" y="114"/>
                    <a:pt x="181" y="198"/>
                  </a:cubicBezTo>
                  <a:cubicBezTo>
                    <a:pt x="169" y="212"/>
                    <a:pt x="161" y="230"/>
                    <a:pt x="147" y="242"/>
                  </a:cubicBezTo>
                  <a:cubicBezTo>
                    <a:pt x="127" y="259"/>
                    <a:pt x="100" y="267"/>
                    <a:pt x="81" y="286"/>
                  </a:cubicBezTo>
                  <a:cubicBezTo>
                    <a:pt x="66" y="301"/>
                    <a:pt x="51" y="316"/>
                    <a:pt x="36" y="331"/>
                  </a:cubicBezTo>
                  <a:cubicBezTo>
                    <a:pt x="0" y="367"/>
                    <a:pt x="3" y="348"/>
                    <a:pt x="3" y="375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50000">
              <a:srgbClr val="0000ff"/>
            </a:gs>
            <a:gs pos="100000">
              <a:srgbClr val="0000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5335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me more of the of the many probes and landers that he contributed a lot to were the Viking landers and orbi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28600" y="1600200"/>
          <a:ext cx="85345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5345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228600" y="510552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y discovered that mars is not a very nice place to take an evening stroll or pop down to the shops.Mainly because there are not any shops , just lots and lots of red rocks  , and certainly  no lif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50000">
              <a:srgbClr val="0000ff"/>
            </a:gs>
            <a:gs pos="100000">
              <a:srgbClr val="0000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86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d on each of these probes he shoved a plaque showing Humans,  the origins of the Universe and our position in the Solar syste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09480" y="1066680"/>
          <a:ext cx="7696440" cy="496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7696440" cy="49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62120" y="60958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ooks like a bunch of lines and naked people to m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50000">
              <a:srgbClr val="0000ff"/>
            </a:gs>
            <a:gs pos="100000">
              <a:srgbClr val="0000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90720" y="12193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e helped to determine the atmosphere and surface of Ven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0" y="2779560"/>
          <a:ext cx="9144000" cy="40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79560"/>
                    <a:ext cx="9144000" cy="4078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67" name=""/>
          <p:cNvGrpSpPr/>
          <p:nvPr/>
        </p:nvGrpSpPr>
        <p:grpSpPr>
          <a:xfrm>
            <a:off x="2895480" y="4903920"/>
            <a:ext cx="609840" cy="552240"/>
            <a:chOff x="2895480" y="4903920"/>
            <a:chExt cx="609840" cy="552240"/>
          </a:xfrm>
        </p:grpSpPr>
        <p:sp>
          <p:nvSpPr>
            <p:cNvPr id="68" name=""/>
            <p:cNvSpPr/>
            <p:nvPr/>
          </p:nvSpPr>
          <p:spPr>
            <a:xfrm>
              <a:off x="2979720" y="4903920"/>
              <a:ext cx="195120" cy="19368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22"/>
                  </a:moveTo>
                  <a:cubicBezTo>
                    <a:pt x="93" y="26"/>
                    <a:pt x="58" y="16"/>
                    <a:pt x="34" y="33"/>
                  </a:cubicBezTo>
                  <a:cubicBezTo>
                    <a:pt x="0" y="57"/>
                    <a:pt x="94" y="117"/>
                    <a:pt x="101" y="122"/>
                  </a:cubicBezTo>
                  <a:cubicBezTo>
                    <a:pt x="114" y="84"/>
                    <a:pt x="119" y="87"/>
                    <a:pt x="101" y="44"/>
                  </a:cubicBezTo>
                  <a:cubicBezTo>
                    <a:pt x="96" y="32"/>
                    <a:pt x="70" y="20"/>
                    <a:pt x="79" y="11"/>
                  </a:cubicBezTo>
                  <a:cubicBezTo>
                    <a:pt x="90" y="0"/>
                    <a:pt x="108" y="18"/>
                    <a:pt x="123" y="22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124080" y="50292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71800" y="5334120"/>
              <a:ext cx="282600" cy="122040"/>
            </a:xfrm>
            <a:custGeom>
              <a:avLst/>
              <a:gdLst/>
              <a:ahLst/>
              <a:rect l="l" t="t" r="r" b="b"/>
              <a:pathLst>
                <a:path w="178" h="77">
                  <a:moveTo>
                    <a:pt x="0" y="77"/>
                  </a:moveTo>
                  <a:cubicBezTo>
                    <a:pt x="16" y="29"/>
                    <a:pt x="44" y="22"/>
                    <a:pt x="89" y="0"/>
                  </a:cubicBezTo>
                  <a:cubicBezTo>
                    <a:pt x="100" y="7"/>
                    <a:pt x="112" y="14"/>
                    <a:pt x="122" y="22"/>
                  </a:cubicBezTo>
                  <a:cubicBezTo>
                    <a:pt x="130" y="29"/>
                    <a:pt x="137" y="37"/>
                    <a:pt x="145" y="44"/>
                  </a:cubicBezTo>
                  <a:cubicBezTo>
                    <a:pt x="155" y="52"/>
                    <a:pt x="178" y="66"/>
                    <a:pt x="178" y="6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2895480" y="5105160"/>
              <a:ext cx="6098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29000" y="4114800"/>
            <a:ext cx="1143000" cy="825480"/>
            <a:chOff x="3429000" y="4114800"/>
            <a:chExt cx="1143000" cy="825480"/>
          </a:xfrm>
        </p:grpSpPr>
        <p:sp>
          <p:nvSpPr>
            <p:cNvPr id="73" name=""/>
            <p:cNvSpPr/>
            <p:nvPr/>
          </p:nvSpPr>
          <p:spPr>
            <a:xfrm>
              <a:off x="3429000" y="4114800"/>
              <a:ext cx="1143000" cy="762120"/>
            </a:xfrm>
            <a:prstGeom prst="wedgeRectCallout">
              <a:avLst>
                <a:gd name="adj1" fmla="val -45833"/>
                <a:gd name="adj2" fmla="val 63958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05320" y="4114800"/>
              <a:ext cx="990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i ther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1219320" y="5715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t going to hap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50000">
              <a:srgbClr val="0000ff"/>
            </a:gs>
            <a:gs pos="100000">
              <a:srgbClr val="0000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523880" y="83808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e also dicovered that Saturn's moon Titan had an atmosphere containing molecules similar to the primitive building blocks of 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362320" y="1981080"/>
          <a:ext cx="419076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981080"/>
                    <a:ext cx="419076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" name=""/>
          <p:cNvGrpSpPr/>
          <p:nvPr/>
        </p:nvGrpSpPr>
        <p:grpSpPr>
          <a:xfrm>
            <a:off x="3809880" y="3276720"/>
            <a:ext cx="1219320" cy="1600200"/>
            <a:chOff x="3809880" y="3276720"/>
            <a:chExt cx="1219320" cy="1600200"/>
          </a:xfrm>
        </p:grpSpPr>
        <p:sp>
          <p:nvSpPr>
            <p:cNvPr id="80" name=""/>
            <p:cNvSpPr/>
            <p:nvPr/>
          </p:nvSpPr>
          <p:spPr>
            <a:xfrm>
              <a:off x="3809880" y="3733920"/>
              <a:ext cx="152640" cy="152280"/>
            </a:xfrm>
            <a:custGeom>
              <a:avLst/>
              <a:gdLst>
                <a:gd name="textAreaLeft" fmla="*/ 34920 w 152640"/>
                <a:gd name="textAreaRight" fmla="*/ 117720 w 152640"/>
                <a:gd name="textAreaTop" fmla="*/ 34560 h 152280"/>
                <a:gd name="textAreaBottom" fmla="*/ 1177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4724280"/>
              <a:ext cx="152280" cy="152640"/>
            </a:xfrm>
            <a:custGeom>
              <a:avLst/>
              <a:gdLst>
                <a:gd name="textAreaLeft" fmla="*/ 34560 w 152280"/>
                <a:gd name="textAreaRight" fmla="*/ 117720 w 152280"/>
                <a:gd name="textAreaTop" fmla="*/ 34920 h 152640"/>
                <a:gd name="textAreaBottom" fmla="*/ 11772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6920" y="3276720"/>
              <a:ext cx="152280" cy="152280"/>
            </a:xfrm>
            <a:custGeom>
              <a:avLst/>
              <a:gdLst>
                <a:gd name="textAreaLeft" fmla="*/ 34560 w 152280"/>
                <a:gd name="textAreaRight" fmla="*/ 117720 w 152280"/>
                <a:gd name="textAreaTop" fmla="*/ 34560 h 152280"/>
                <a:gd name="textAreaBottom" fmla="*/ 1177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962520" y="3429000"/>
            <a:ext cx="1218600" cy="1600200"/>
            <a:chOff x="3962520" y="3429000"/>
            <a:chExt cx="1218600" cy="1600200"/>
          </a:xfrm>
        </p:grpSpPr>
        <p:sp>
          <p:nvSpPr>
            <p:cNvPr id="84" name=""/>
            <p:cNvSpPr/>
            <p:nvPr/>
          </p:nvSpPr>
          <p:spPr>
            <a:xfrm>
              <a:off x="3962520" y="3886200"/>
              <a:ext cx="152280" cy="152280"/>
            </a:xfrm>
            <a:custGeom>
              <a:avLst/>
              <a:gdLst>
                <a:gd name="textAreaLeft" fmla="*/ 34560 w 152280"/>
                <a:gd name="textAreaRight" fmla="*/ 117720 w 152280"/>
                <a:gd name="textAreaTop" fmla="*/ 34560 h 152280"/>
                <a:gd name="textAreaBottom" fmla="*/ 1177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24280" y="4876560"/>
              <a:ext cx="151920" cy="152640"/>
            </a:xfrm>
            <a:custGeom>
              <a:avLst/>
              <a:gdLst>
                <a:gd name="textAreaLeft" fmla="*/ 34560 w 151920"/>
                <a:gd name="textAreaRight" fmla="*/ 117360 w 151920"/>
                <a:gd name="textAreaTop" fmla="*/ 34920 h 152640"/>
                <a:gd name="textAreaBottom" fmla="*/ 11772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29200" y="3429000"/>
              <a:ext cx="151920" cy="152280"/>
            </a:xfrm>
            <a:custGeom>
              <a:avLst/>
              <a:gdLst>
                <a:gd name="textAreaLeft" fmla="*/ 34560 w 151920"/>
                <a:gd name="textAreaRight" fmla="*/ 117360 w 151920"/>
                <a:gd name="textAreaTop" fmla="*/ 34560 h 152280"/>
                <a:gd name="textAreaBottom" fmla="*/ 1177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124080" y="3276720"/>
            <a:ext cx="1219320" cy="1600200"/>
            <a:chOff x="3124080" y="3276720"/>
            <a:chExt cx="1219320" cy="1600200"/>
          </a:xfrm>
        </p:grpSpPr>
        <p:sp>
          <p:nvSpPr>
            <p:cNvPr id="88" name=""/>
            <p:cNvSpPr/>
            <p:nvPr/>
          </p:nvSpPr>
          <p:spPr>
            <a:xfrm>
              <a:off x="3124080" y="3733920"/>
              <a:ext cx="152640" cy="152280"/>
            </a:xfrm>
            <a:custGeom>
              <a:avLst/>
              <a:gdLst>
                <a:gd name="textAreaLeft" fmla="*/ 34920 w 152640"/>
                <a:gd name="textAreaRight" fmla="*/ 117720 w 152640"/>
                <a:gd name="textAreaTop" fmla="*/ 34560 h 152280"/>
                <a:gd name="textAreaBottom" fmla="*/ 1177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86200" y="4724280"/>
              <a:ext cx="152280" cy="152640"/>
            </a:xfrm>
            <a:custGeom>
              <a:avLst/>
              <a:gdLst>
                <a:gd name="textAreaLeft" fmla="*/ 34560 w 152280"/>
                <a:gd name="textAreaRight" fmla="*/ 117720 w 152280"/>
                <a:gd name="textAreaTop" fmla="*/ 34920 h 152640"/>
                <a:gd name="textAreaBottom" fmla="*/ 11772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91120" y="3276720"/>
              <a:ext cx="152280" cy="152280"/>
            </a:xfrm>
            <a:custGeom>
              <a:avLst/>
              <a:gdLst>
                <a:gd name="textAreaLeft" fmla="*/ 34560 w 152280"/>
                <a:gd name="textAreaRight" fmla="*/ 117720 w 152280"/>
                <a:gd name="textAreaTop" fmla="*/ 34560 h 152280"/>
                <a:gd name="textAreaBottom" fmla="*/ 1177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809880" y="2590920"/>
            <a:ext cx="1066680" cy="1600200"/>
            <a:chOff x="3809880" y="2590920"/>
            <a:chExt cx="1066680" cy="1600200"/>
          </a:xfrm>
        </p:grpSpPr>
        <p:sp>
          <p:nvSpPr>
            <p:cNvPr id="92" name=""/>
            <p:cNvSpPr/>
            <p:nvPr/>
          </p:nvSpPr>
          <p:spPr>
            <a:xfrm>
              <a:off x="3809880" y="3048120"/>
              <a:ext cx="133560" cy="152280"/>
            </a:xfrm>
            <a:custGeom>
              <a:avLst/>
              <a:gdLst>
                <a:gd name="textAreaLeft" fmla="*/ 30240 w 133560"/>
                <a:gd name="textAreaRight" fmla="*/ 103320 w 133560"/>
                <a:gd name="textAreaTop" fmla="*/ 34560 h 152280"/>
                <a:gd name="textAreaBottom" fmla="*/ 1177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76600" y="4038480"/>
              <a:ext cx="133200" cy="152640"/>
            </a:xfrm>
            <a:custGeom>
              <a:avLst/>
              <a:gdLst>
                <a:gd name="textAreaLeft" fmla="*/ 30240 w 133200"/>
                <a:gd name="textAreaRight" fmla="*/ 102960 w 133200"/>
                <a:gd name="textAreaTop" fmla="*/ 34920 h 152640"/>
                <a:gd name="textAreaBottom" fmla="*/ 11772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43360" y="2590920"/>
              <a:ext cx="133200" cy="152280"/>
            </a:xfrm>
            <a:custGeom>
              <a:avLst/>
              <a:gdLst>
                <a:gd name="textAreaLeft" fmla="*/ 30240 w 133200"/>
                <a:gd name="textAreaRight" fmla="*/ 102960 w 133200"/>
                <a:gd name="textAreaTop" fmla="*/ 34560 h 152280"/>
                <a:gd name="textAreaBottom" fmla="*/ 1177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048120" y="4038480"/>
            <a:ext cx="1218600" cy="1600200"/>
            <a:chOff x="3048120" y="4038480"/>
            <a:chExt cx="1218600" cy="1600200"/>
          </a:xfrm>
        </p:grpSpPr>
        <p:sp>
          <p:nvSpPr>
            <p:cNvPr id="96" name=""/>
            <p:cNvSpPr/>
            <p:nvPr/>
          </p:nvSpPr>
          <p:spPr>
            <a:xfrm>
              <a:off x="3048120" y="4495680"/>
              <a:ext cx="152280" cy="152280"/>
            </a:xfrm>
            <a:custGeom>
              <a:avLst/>
              <a:gdLst>
                <a:gd name="textAreaLeft" fmla="*/ 34560 w 152280"/>
                <a:gd name="textAreaRight" fmla="*/ 117720 w 152280"/>
                <a:gd name="textAreaTop" fmla="*/ 34560 h 152280"/>
                <a:gd name="textAreaBottom" fmla="*/ 1177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9880" y="5486040"/>
              <a:ext cx="151920" cy="152640"/>
            </a:xfrm>
            <a:custGeom>
              <a:avLst/>
              <a:gdLst>
                <a:gd name="textAreaLeft" fmla="*/ 34560 w 151920"/>
                <a:gd name="textAreaRight" fmla="*/ 117360 w 151920"/>
                <a:gd name="textAreaTop" fmla="*/ 34920 h 152640"/>
                <a:gd name="textAreaBottom" fmla="*/ 11772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14800" y="4038480"/>
              <a:ext cx="151920" cy="152280"/>
            </a:xfrm>
            <a:custGeom>
              <a:avLst/>
              <a:gdLst>
                <a:gd name="textAreaLeft" fmla="*/ 34560 w 151920"/>
                <a:gd name="textAreaRight" fmla="*/ 117360 w 151920"/>
                <a:gd name="textAreaTop" fmla="*/ 34560 h 152280"/>
                <a:gd name="textAreaBottom" fmla="*/ 1177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114800" y="3352680"/>
            <a:ext cx="1828440" cy="1828440"/>
            <a:chOff x="4114800" y="3352680"/>
            <a:chExt cx="1828440" cy="1828440"/>
          </a:xfrm>
        </p:grpSpPr>
        <p:sp>
          <p:nvSpPr>
            <p:cNvPr id="100" name=""/>
            <p:cNvSpPr/>
            <p:nvPr/>
          </p:nvSpPr>
          <p:spPr>
            <a:xfrm>
              <a:off x="4114800" y="3875040"/>
              <a:ext cx="228600" cy="173880"/>
            </a:xfrm>
            <a:custGeom>
              <a:avLst/>
              <a:gdLst>
                <a:gd name="textAreaLeft" fmla="*/ 52200 w 228600"/>
                <a:gd name="textAreaRight" fmla="*/ 176400 w 228600"/>
                <a:gd name="textAreaTop" fmla="*/ 39600 h 173880"/>
                <a:gd name="textAreaBottom" fmla="*/ 134280 h 17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57440" y="5006880"/>
              <a:ext cx="228240" cy="174240"/>
            </a:xfrm>
            <a:custGeom>
              <a:avLst/>
              <a:gdLst>
                <a:gd name="textAreaLeft" fmla="*/ 51840 w 228240"/>
                <a:gd name="textAreaRight" fmla="*/ 176400 w 228240"/>
                <a:gd name="textAreaTop" fmla="*/ 39600 h 174240"/>
                <a:gd name="textAreaBottom" fmla="*/ 134640 h 17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15000" y="3352680"/>
              <a:ext cx="228240" cy="173880"/>
            </a:xfrm>
            <a:custGeom>
              <a:avLst/>
              <a:gdLst>
                <a:gd name="textAreaLeft" fmla="*/ 51840 w 228240"/>
                <a:gd name="textAreaRight" fmla="*/ 176400 w 228240"/>
                <a:gd name="textAreaTop" fmla="*/ 39600 h 173880"/>
                <a:gd name="textAreaBottom" fmla="*/ 134280 h 17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962520" y="3886200"/>
            <a:ext cx="1218600" cy="1600200"/>
            <a:chOff x="3962520" y="3886200"/>
            <a:chExt cx="1218600" cy="1600200"/>
          </a:xfrm>
        </p:grpSpPr>
        <p:sp>
          <p:nvSpPr>
            <p:cNvPr id="104" name=""/>
            <p:cNvSpPr/>
            <p:nvPr/>
          </p:nvSpPr>
          <p:spPr>
            <a:xfrm>
              <a:off x="3962520" y="4343400"/>
              <a:ext cx="152280" cy="152280"/>
            </a:xfrm>
            <a:custGeom>
              <a:avLst/>
              <a:gdLst>
                <a:gd name="textAreaLeft" fmla="*/ 34560 w 152280"/>
                <a:gd name="textAreaRight" fmla="*/ 117720 w 152280"/>
                <a:gd name="textAreaTop" fmla="*/ 34560 h 152280"/>
                <a:gd name="textAreaBottom" fmla="*/ 1177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24280" y="5333760"/>
              <a:ext cx="151920" cy="152640"/>
            </a:xfrm>
            <a:custGeom>
              <a:avLst/>
              <a:gdLst>
                <a:gd name="textAreaLeft" fmla="*/ 34560 w 151920"/>
                <a:gd name="textAreaRight" fmla="*/ 117360 w 151920"/>
                <a:gd name="textAreaTop" fmla="*/ 34920 h 152640"/>
                <a:gd name="textAreaBottom" fmla="*/ 11772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9200" y="3886200"/>
              <a:ext cx="151920" cy="152280"/>
            </a:xfrm>
            <a:custGeom>
              <a:avLst/>
              <a:gdLst>
                <a:gd name="textAreaLeft" fmla="*/ 34560 w 151920"/>
                <a:gd name="textAreaRight" fmla="*/ 117360 w 151920"/>
                <a:gd name="textAreaTop" fmla="*/ 34560 h 152280"/>
                <a:gd name="textAreaBottom" fmla="*/ 1177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648320" y="3657600"/>
            <a:ext cx="1218600" cy="1600200"/>
            <a:chOff x="4648320" y="3657600"/>
            <a:chExt cx="1218600" cy="1600200"/>
          </a:xfrm>
        </p:grpSpPr>
        <p:sp>
          <p:nvSpPr>
            <p:cNvPr id="108" name=""/>
            <p:cNvSpPr/>
            <p:nvPr/>
          </p:nvSpPr>
          <p:spPr>
            <a:xfrm>
              <a:off x="4648320" y="4114800"/>
              <a:ext cx="152280" cy="152280"/>
            </a:xfrm>
            <a:custGeom>
              <a:avLst/>
              <a:gdLst>
                <a:gd name="textAreaLeft" fmla="*/ 34560 w 152280"/>
                <a:gd name="textAreaRight" fmla="*/ 117720 w 152280"/>
                <a:gd name="textAreaTop" fmla="*/ 34560 h 152280"/>
                <a:gd name="textAreaBottom" fmla="*/ 1177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10080" y="5105160"/>
              <a:ext cx="151920" cy="152640"/>
            </a:xfrm>
            <a:custGeom>
              <a:avLst/>
              <a:gdLst>
                <a:gd name="textAreaLeft" fmla="*/ 34560 w 151920"/>
                <a:gd name="textAreaRight" fmla="*/ 117360 w 151920"/>
                <a:gd name="textAreaTop" fmla="*/ 34920 h 152640"/>
                <a:gd name="textAreaBottom" fmla="*/ 11772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15000" y="3657600"/>
              <a:ext cx="151920" cy="152280"/>
            </a:xfrm>
            <a:custGeom>
              <a:avLst/>
              <a:gdLst>
                <a:gd name="textAreaLeft" fmla="*/ 34560 w 151920"/>
                <a:gd name="textAreaRight" fmla="*/ 117360 w 151920"/>
                <a:gd name="textAreaTop" fmla="*/ 34560 h 152280"/>
                <a:gd name="textAreaBottom" fmla="*/ 1177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419720" y="4038480"/>
            <a:ext cx="1218600" cy="1600200"/>
            <a:chOff x="4419720" y="4038480"/>
            <a:chExt cx="1218600" cy="1600200"/>
          </a:xfrm>
        </p:grpSpPr>
        <p:sp>
          <p:nvSpPr>
            <p:cNvPr id="112" name=""/>
            <p:cNvSpPr/>
            <p:nvPr/>
          </p:nvSpPr>
          <p:spPr>
            <a:xfrm>
              <a:off x="4419720" y="4495680"/>
              <a:ext cx="152280" cy="152280"/>
            </a:xfrm>
            <a:custGeom>
              <a:avLst/>
              <a:gdLst>
                <a:gd name="textAreaLeft" fmla="*/ 34560 w 152280"/>
                <a:gd name="textAreaRight" fmla="*/ 117720 w 152280"/>
                <a:gd name="textAreaTop" fmla="*/ 34560 h 152280"/>
                <a:gd name="textAreaBottom" fmla="*/ 1177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81480" y="5486040"/>
              <a:ext cx="151920" cy="152640"/>
            </a:xfrm>
            <a:custGeom>
              <a:avLst/>
              <a:gdLst>
                <a:gd name="textAreaLeft" fmla="*/ 34560 w 151920"/>
                <a:gd name="textAreaRight" fmla="*/ 117360 w 151920"/>
                <a:gd name="textAreaTop" fmla="*/ 34920 h 152640"/>
                <a:gd name="textAreaBottom" fmla="*/ 11772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86400" y="4038480"/>
              <a:ext cx="151920" cy="152280"/>
            </a:xfrm>
            <a:custGeom>
              <a:avLst/>
              <a:gdLst>
                <a:gd name="textAreaLeft" fmla="*/ 34560 w 151920"/>
                <a:gd name="textAreaRight" fmla="*/ 117360 w 151920"/>
                <a:gd name="textAreaTop" fmla="*/ 34560 h 152280"/>
                <a:gd name="textAreaBottom" fmla="*/ 1177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276720" y="2743200"/>
            <a:ext cx="1218600" cy="1600200"/>
            <a:chOff x="3276720" y="2743200"/>
            <a:chExt cx="1218600" cy="1600200"/>
          </a:xfrm>
        </p:grpSpPr>
        <p:sp>
          <p:nvSpPr>
            <p:cNvPr id="116" name=""/>
            <p:cNvSpPr/>
            <p:nvPr/>
          </p:nvSpPr>
          <p:spPr>
            <a:xfrm>
              <a:off x="3276720" y="3200400"/>
              <a:ext cx="152280" cy="152280"/>
            </a:xfrm>
            <a:custGeom>
              <a:avLst/>
              <a:gdLst>
                <a:gd name="textAreaLeft" fmla="*/ 34560 w 152280"/>
                <a:gd name="textAreaRight" fmla="*/ 117720 w 152280"/>
                <a:gd name="textAreaTop" fmla="*/ 34560 h 152280"/>
                <a:gd name="textAreaBottom" fmla="*/ 1177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38480" y="4190760"/>
              <a:ext cx="151920" cy="152640"/>
            </a:xfrm>
            <a:custGeom>
              <a:avLst/>
              <a:gdLst>
                <a:gd name="textAreaLeft" fmla="*/ 34560 w 151920"/>
                <a:gd name="textAreaRight" fmla="*/ 117360 w 151920"/>
                <a:gd name="textAreaTop" fmla="*/ 34920 h 152640"/>
                <a:gd name="textAreaBottom" fmla="*/ 11772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43400" y="2743200"/>
              <a:ext cx="151920" cy="152280"/>
            </a:xfrm>
            <a:custGeom>
              <a:avLst/>
              <a:gdLst>
                <a:gd name="textAreaLeft" fmla="*/ 34560 w 151920"/>
                <a:gd name="textAreaRight" fmla="*/ 117360 w 151920"/>
                <a:gd name="textAreaTop" fmla="*/ 34560 h 152280"/>
                <a:gd name="textAreaBottom" fmla="*/ 1177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50000">
              <a:srgbClr val="0000ff"/>
            </a:gs>
            <a:gs pos="100000">
              <a:srgbClr val="0000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010697explorations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3038400" cy="4800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590920" y="1600200"/>
            <a:ext cx="3871800" cy="4829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38080" y="571680"/>
            <a:ext cx="79963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e was one of the major scientists who discovered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ffects a major Nuclear war would have on the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50000">
              <a:srgbClr val="0000ff"/>
            </a:gs>
            <a:gs pos="100000">
              <a:srgbClr val="0000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441000"/>
            <a:ext cx="906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roughout his career he always protested the importance of searching for extra terrestrial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2906640" cy="37335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843480" y="5406840"/>
            <a:ext cx="789660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d here you see Sagan at the SETI (Search for extraterrest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lligence) conference in 1972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752200"/>
            <a:ext cx="223056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porting a ra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roovy hairc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14:52:21Z</dcterms:created>
  <dc:creator>Autorised User</dc:creator>
  <dc:description/>
  <dc:language>en-US</dc:language>
  <cp:lastModifiedBy>Autorised User</cp:lastModifiedBy>
  <dcterms:modified xsi:type="dcterms:W3CDTF">2002-02-01T15:26:18Z</dcterms:modified>
  <cp:revision>4</cp:revision>
  <dc:subject/>
  <dc:title>Carl Sagan</dc:title>
</cp:coreProperties>
</file>