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7AA-4D87-443B-A2CC-AEAB2754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A48-A835-4FE2-BE1B-09E324B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3E8-816E-4EE4-8808-3CA8DCF7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BEB-3630-47FA-8CAA-4539E3AA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9F1-4706-463E-9993-3BD6195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C4F-D935-41DD-AE41-B630391E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A8F-5F3D-44AB-8B7B-4AFA817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C78-5616-4584-926D-6150EADF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FD2-924F-49CD-A870-CE3D346B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C59-FA49-4DBD-A8BB-CFD5C5B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EE4-9C6F-4822-9F27-E1DA2E73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143-D909-4ED9-8ED0-B128443A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B1A-8A67-4C42-B6ED-1FA176748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Carl Saga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Daniel Drew 9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24080" y="1371600"/>
          <a:ext cx="2892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371600"/>
                    <a:ext cx="2892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99880"/>
            <a:ext cx="888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rl was always supporting and contributing towards projects using radio telescopes to search for extraterrestrial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48160" cy="398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68800" y="5942520"/>
            <a:ext cx="78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also discovered it was a very good way of cooking noo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1542960"/>
            <a:ext cx="37702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presentation on Carl Sa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934-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s:www.sciam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BBC.co.uk/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arl Contributed to most of the unmanned missions that explored our solar system , and go on exploring the galaxy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s they continue on tearing through spa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09680" y="1600200"/>
          <a:ext cx="4781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4781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90720" y="54864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probably smash into the nearest star, or get blown up by rubbery faced aliens in big warships , but that’s not important… . . .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80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se include the voyager probes , and the Mariner 9 spacecraft which transmitted the first detailed images shown Mars ,as a dull desolate, boring and down-right average plane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0" y="1600200"/>
          <a:ext cx="41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11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3544920" y="2681280"/>
            <a:ext cx="1465200" cy="1903320"/>
            <a:chOff x="3544920" y="2681280"/>
            <a:chExt cx="1465200" cy="1903320"/>
          </a:xfrm>
        </p:grpSpPr>
        <p:sp>
          <p:nvSpPr>
            <p:cNvPr id="53" name=""/>
            <p:cNvSpPr/>
            <p:nvPr/>
          </p:nvSpPr>
          <p:spPr>
            <a:xfrm>
              <a:off x="3544920" y="2681280"/>
              <a:ext cx="371520" cy="33480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56" y="22"/>
                  </a:moveTo>
                  <a:cubicBezTo>
                    <a:pt x="45" y="33"/>
                    <a:pt x="29" y="41"/>
                    <a:pt x="23" y="55"/>
                  </a:cubicBezTo>
                  <a:cubicBezTo>
                    <a:pt x="20" y="62"/>
                    <a:pt x="0" y="150"/>
                    <a:pt x="23" y="166"/>
                  </a:cubicBezTo>
                  <a:cubicBezTo>
                    <a:pt x="48" y="183"/>
                    <a:pt x="82" y="181"/>
                    <a:pt x="112" y="189"/>
                  </a:cubicBezTo>
                  <a:cubicBezTo>
                    <a:pt x="165" y="184"/>
                    <a:pt x="234" y="211"/>
                    <a:pt x="234" y="144"/>
                  </a:cubicBezTo>
                  <a:cubicBezTo>
                    <a:pt x="234" y="84"/>
                    <a:pt x="231" y="53"/>
                    <a:pt x="178" y="22"/>
                  </a:cubicBezTo>
                  <a:cubicBezTo>
                    <a:pt x="158" y="10"/>
                    <a:pt x="112" y="0"/>
                    <a:pt x="112" y="0"/>
                  </a:cubicBezTo>
                  <a:cubicBezTo>
                    <a:pt x="97" y="4"/>
                    <a:pt x="79" y="1"/>
                    <a:pt x="67" y="11"/>
                  </a:cubicBezTo>
                  <a:cubicBezTo>
                    <a:pt x="54" y="21"/>
                    <a:pt x="56" y="74"/>
                    <a:pt x="56" y="22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37160" y="2744640"/>
              <a:ext cx="372960" cy="400320"/>
            </a:xfrm>
            <a:custGeom>
              <a:avLst/>
              <a:gdLst/>
              <a:ahLst/>
              <a:rect l="l" t="t" r="r" b="b"/>
              <a:pathLst>
                <a:path w="235" h="252">
                  <a:moveTo>
                    <a:pt x="135" y="4"/>
                  </a:moveTo>
                  <a:cubicBezTo>
                    <a:pt x="0" y="19"/>
                    <a:pt x="31" y="0"/>
                    <a:pt x="13" y="126"/>
                  </a:cubicBezTo>
                  <a:cubicBezTo>
                    <a:pt x="17" y="145"/>
                    <a:pt x="14" y="166"/>
                    <a:pt x="24" y="182"/>
                  </a:cubicBezTo>
                  <a:cubicBezTo>
                    <a:pt x="42" y="211"/>
                    <a:pt x="78" y="225"/>
                    <a:pt x="102" y="249"/>
                  </a:cubicBezTo>
                  <a:cubicBezTo>
                    <a:pt x="200" y="237"/>
                    <a:pt x="208" y="252"/>
                    <a:pt x="235" y="171"/>
                  </a:cubicBezTo>
                  <a:cubicBezTo>
                    <a:pt x="234" y="164"/>
                    <a:pt x="225" y="89"/>
                    <a:pt x="213" y="71"/>
                  </a:cubicBezTo>
                  <a:cubicBezTo>
                    <a:pt x="204" y="58"/>
                    <a:pt x="193" y="46"/>
                    <a:pt x="179" y="38"/>
                  </a:cubicBezTo>
                  <a:cubicBezTo>
                    <a:pt x="120" y="5"/>
                    <a:pt x="87" y="28"/>
                    <a:pt x="135" y="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53000" y="3936960"/>
              <a:ext cx="1257120" cy="647640"/>
            </a:xfrm>
            <a:custGeom>
              <a:avLst/>
              <a:gdLst/>
              <a:ahLst/>
              <a:rect l="l" t="t" r="r" b="b"/>
              <a:pathLst>
                <a:path w="792" h="408">
                  <a:moveTo>
                    <a:pt x="3" y="375"/>
                  </a:moveTo>
                  <a:cubicBezTo>
                    <a:pt x="7" y="323"/>
                    <a:pt x="6" y="271"/>
                    <a:pt x="14" y="220"/>
                  </a:cubicBezTo>
                  <a:cubicBezTo>
                    <a:pt x="36" y="88"/>
                    <a:pt x="273" y="49"/>
                    <a:pt x="381" y="31"/>
                  </a:cubicBezTo>
                  <a:cubicBezTo>
                    <a:pt x="474" y="0"/>
                    <a:pt x="575" y="26"/>
                    <a:pt x="670" y="42"/>
                  </a:cubicBezTo>
                  <a:cubicBezTo>
                    <a:pt x="685" y="57"/>
                    <a:pt x="701" y="70"/>
                    <a:pt x="714" y="86"/>
                  </a:cubicBezTo>
                  <a:cubicBezTo>
                    <a:pt x="731" y="107"/>
                    <a:pt x="759" y="153"/>
                    <a:pt x="759" y="153"/>
                  </a:cubicBezTo>
                  <a:cubicBezTo>
                    <a:pt x="777" y="207"/>
                    <a:pt x="778" y="264"/>
                    <a:pt x="792" y="320"/>
                  </a:cubicBezTo>
                  <a:cubicBezTo>
                    <a:pt x="785" y="342"/>
                    <a:pt x="789" y="372"/>
                    <a:pt x="770" y="386"/>
                  </a:cubicBezTo>
                  <a:cubicBezTo>
                    <a:pt x="759" y="394"/>
                    <a:pt x="755" y="364"/>
                    <a:pt x="748" y="353"/>
                  </a:cubicBezTo>
                  <a:cubicBezTo>
                    <a:pt x="677" y="232"/>
                    <a:pt x="791" y="408"/>
                    <a:pt x="681" y="242"/>
                  </a:cubicBezTo>
                  <a:cubicBezTo>
                    <a:pt x="631" y="167"/>
                    <a:pt x="542" y="152"/>
                    <a:pt x="459" y="131"/>
                  </a:cubicBezTo>
                  <a:cubicBezTo>
                    <a:pt x="357" y="137"/>
                    <a:pt x="251" y="114"/>
                    <a:pt x="181" y="198"/>
                  </a:cubicBezTo>
                  <a:cubicBezTo>
                    <a:pt x="169" y="212"/>
                    <a:pt x="161" y="230"/>
                    <a:pt x="147" y="242"/>
                  </a:cubicBezTo>
                  <a:cubicBezTo>
                    <a:pt x="127" y="259"/>
                    <a:pt x="100" y="267"/>
                    <a:pt x="81" y="286"/>
                  </a:cubicBezTo>
                  <a:cubicBezTo>
                    <a:pt x="66" y="301"/>
                    <a:pt x="51" y="316"/>
                    <a:pt x="36" y="331"/>
                  </a:cubicBezTo>
                  <a:cubicBezTo>
                    <a:pt x="0" y="367"/>
                    <a:pt x="3" y="348"/>
                    <a:pt x="3" y="37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5335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more of the of the many probes and landers that he contributed a lot to were the Viking landers and orbi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600200"/>
          <a:ext cx="85345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345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8600" y="5105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y discovered that mars is not a very nice place to take an evening stroll or pop down to the shops.Mainly because there are not any shops , just lots and lots of red rocks  , and certainly  no lif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on each of these probes he shoved a plaque showing Humans,  the origins of the Universe and our position in the Solar syst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1066680"/>
          <a:ext cx="7696440" cy="496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696440" cy="49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ooks like a bunch of lines and naked people to 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1219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 helped to determine the atmosphere and surface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2779560"/>
          <a:ext cx="9144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79560"/>
                    <a:ext cx="9144000" cy="4078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2895480" y="4903920"/>
            <a:ext cx="609840" cy="552240"/>
            <a:chOff x="2895480" y="4903920"/>
            <a:chExt cx="609840" cy="552240"/>
          </a:xfrm>
        </p:grpSpPr>
        <p:sp>
          <p:nvSpPr>
            <p:cNvPr id="68" name=""/>
            <p:cNvSpPr/>
            <p:nvPr/>
          </p:nvSpPr>
          <p:spPr>
            <a:xfrm>
              <a:off x="2979720" y="4903920"/>
              <a:ext cx="195120" cy="1936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22"/>
                  </a:moveTo>
                  <a:cubicBezTo>
                    <a:pt x="93" y="26"/>
                    <a:pt x="58" y="16"/>
                    <a:pt x="34" y="33"/>
                  </a:cubicBezTo>
                  <a:cubicBezTo>
                    <a:pt x="0" y="57"/>
                    <a:pt x="94" y="117"/>
                    <a:pt x="101" y="122"/>
                  </a:cubicBezTo>
                  <a:cubicBezTo>
                    <a:pt x="114" y="84"/>
                    <a:pt x="119" y="87"/>
                    <a:pt x="101" y="44"/>
                  </a:cubicBezTo>
                  <a:cubicBezTo>
                    <a:pt x="96" y="32"/>
                    <a:pt x="70" y="20"/>
                    <a:pt x="79" y="11"/>
                  </a:cubicBezTo>
                  <a:cubicBezTo>
                    <a:pt x="90" y="0"/>
                    <a:pt x="108" y="18"/>
                    <a:pt x="123" y="22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2408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1800" y="5334120"/>
              <a:ext cx="282600" cy="12204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0" y="77"/>
                  </a:moveTo>
                  <a:cubicBezTo>
                    <a:pt x="16" y="29"/>
                    <a:pt x="44" y="22"/>
                    <a:pt x="89" y="0"/>
                  </a:cubicBezTo>
                  <a:cubicBezTo>
                    <a:pt x="100" y="7"/>
                    <a:pt x="112" y="14"/>
                    <a:pt x="122" y="22"/>
                  </a:cubicBezTo>
                  <a:cubicBezTo>
                    <a:pt x="130" y="29"/>
                    <a:pt x="137" y="37"/>
                    <a:pt x="145" y="44"/>
                  </a:cubicBezTo>
                  <a:cubicBezTo>
                    <a:pt x="155" y="52"/>
                    <a:pt x="178" y="66"/>
                    <a:pt x="178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895480" y="510516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29000" y="4114800"/>
            <a:ext cx="1143000" cy="825480"/>
            <a:chOff x="3429000" y="4114800"/>
            <a:chExt cx="1143000" cy="825480"/>
          </a:xfrm>
        </p:grpSpPr>
        <p:sp>
          <p:nvSpPr>
            <p:cNvPr id="73" name=""/>
            <p:cNvSpPr/>
            <p:nvPr/>
          </p:nvSpPr>
          <p:spPr>
            <a:xfrm>
              <a:off x="3429000" y="4114800"/>
              <a:ext cx="1143000" cy="762120"/>
            </a:xfrm>
            <a:prstGeom prst="wedgeRectCallout">
              <a:avLst>
                <a:gd name="adj1" fmla="val -45833"/>
                <a:gd name="adj2" fmla="val 63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4114800"/>
              <a:ext cx="990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i t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21932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going to hap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3880" y="8380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also dicovered that Saturn's moon Titan had an atmosphere containing molecules similar to the primitive building blocks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362320" y="1981080"/>
          <a:ext cx="41907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4190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3809880" y="3276720"/>
            <a:ext cx="1219320" cy="1600200"/>
            <a:chOff x="3809880" y="3276720"/>
            <a:chExt cx="1219320" cy="1600200"/>
          </a:xfrm>
        </p:grpSpPr>
        <p:sp>
          <p:nvSpPr>
            <p:cNvPr id="80" name=""/>
            <p:cNvSpPr/>
            <p:nvPr/>
          </p:nvSpPr>
          <p:spPr>
            <a:xfrm>
              <a:off x="3809880" y="3733920"/>
              <a:ext cx="152640" cy="152280"/>
            </a:xfrm>
            <a:custGeom>
              <a:avLst/>
              <a:gdLst>
                <a:gd name="textAreaLeft" fmla="*/ 34920 w 152640"/>
                <a:gd name="textAreaRight" fmla="*/ 117720 w 15264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4724280"/>
              <a:ext cx="152280" cy="15264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6920" y="327672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62520" y="3429000"/>
            <a:ext cx="1218600" cy="1600200"/>
            <a:chOff x="3962520" y="3429000"/>
            <a:chExt cx="1218600" cy="1600200"/>
          </a:xfrm>
        </p:grpSpPr>
        <p:sp>
          <p:nvSpPr>
            <p:cNvPr id="84" name=""/>
            <p:cNvSpPr/>
            <p:nvPr/>
          </p:nvSpPr>
          <p:spPr>
            <a:xfrm>
              <a:off x="3962520" y="38862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24280" y="48765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4290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124080" y="3276720"/>
            <a:ext cx="1219320" cy="1600200"/>
            <a:chOff x="3124080" y="3276720"/>
            <a:chExt cx="1219320" cy="1600200"/>
          </a:xfrm>
        </p:grpSpPr>
        <p:sp>
          <p:nvSpPr>
            <p:cNvPr id="88" name=""/>
            <p:cNvSpPr/>
            <p:nvPr/>
          </p:nvSpPr>
          <p:spPr>
            <a:xfrm>
              <a:off x="3124080" y="3733920"/>
              <a:ext cx="152640" cy="152280"/>
            </a:xfrm>
            <a:custGeom>
              <a:avLst/>
              <a:gdLst>
                <a:gd name="textAreaLeft" fmla="*/ 34920 w 152640"/>
                <a:gd name="textAreaRight" fmla="*/ 117720 w 15264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6200" y="4724280"/>
              <a:ext cx="152280" cy="15264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327672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809880" y="2590920"/>
            <a:ext cx="1066680" cy="1600200"/>
            <a:chOff x="3809880" y="2590920"/>
            <a:chExt cx="1066680" cy="1600200"/>
          </a:xfrm>
        </p:grpSpPr>
        <p:sp>
          <p:nvSpPr>
            <p:cNvPr id="92" name=""/>
            <p:cNvSpPr/>
            <p:nvPr/>
          </p:nvSpPr>
          <p:spPr>
            <a:xfrm>
              <a:off x="3809880" y="3048120"/>
              <a:ext cx="133560" cy="152280"/>
            </a:xfrm>
            <a:custGeom>
              <a:avLst/>
              <a:gdLst>
                <a:gd name="textAreaLeft" fmla="*/ 30240 w 133560"/>
                <a:gd name="textAreaRight" fmla="*/ 103320 w 13356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6600" y="4038480"/>
              <a:ext cx="133200" cy="152640"/>
            </a:xfrm>
            <a:custGeom>
              <a:avLst/>
              <a:gdLst>
                <a:gd name="textAreaLeft" fmla="*/ 30240 w 133200"/>
                <a:gd name="textAreaRight" fmla="*/ 102960 w 13320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43360" y="2590920"/>
              <a:ext cx="133200" cy="152280"/>
            </a:xfrm>
            <a:custGeom>
              <a:avLst/>
              <a:gdLst>
                <a:gd name="textAreaLeft" fmla="*/ 30240 w 133200"/>
                <a:gd name="textAreaRight" fmla="*/ 102960 w 13320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8120" y="4038480"/>
            <a:ext cx="1218600" cy="1600200"/>
            <a:chOff x="3048120" y="4038480"/>
            <a:chExt cx="1218600" cy="1600200"/>
          </a:xfrm>
        </p:grpSpPr>
        <p:sp>
          <p:nvSpPr>
            <p:cNvPr id="96" name=""/>
            <p:cNvSpPr/>
            <p:nvPr/>
          </p:nvSpPr>
          <p:spPr>
            <a:xfrm>
              <a:off x="3048120" y="449568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9880" y="548604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4800" y="403848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14800" y="3352680"/>
            <a:ext cx="1828440" cy="1828440"/>
            <a:chOff x="4114800" y="3352680"/>
            <a:chExt cx="1828440" cy="1828440"/>
          </a:xfrm>
        </p:grpSpPr>
        <p:sp>
          <p:nvSpPr>
            <p:cNvPr id="100" name=""/>
            <p:cNvSpPr/>
            <p:nvPr/>
          </p:nvSpPr>
          <p:spPr>
            <a:xfrm>
              <a:off x="4114800" y="3875040"/>
              <a:ext cx="228600" cy="17388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39600 h 173880"/>
                <a:gd name="textAreaBottom" fmla="*/ 1342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5006880"/>
              <a:ext cx="228240" cy="174240"/>
            </a:xfrm>
            <a:custGeom>
              <a:avLst/>
              <a:gdLst>
                <a:gd name="textAreaLeft" fmla="*/ 51840 w 228240"/>
                <a:gd name="textAreaRight" fmla="*/ 176400 w 228240"/>
                <a:gd name="textAreaTop" fmla="*/ 39600 h 174240"/>
                <a:gd name="textAreaBottom" fmla="*/ 13464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3352680"/>
              <a:ext cx="228240" cy="173880"/>
            </a:xfrm>
            <a:custGeom>
              <a:avLst/>
              <a:gdLst>
                <a:gd name="textAreaLeft" fmla="*/ 51840 w 228240"/>
                <a:gd name="textAreaRight" fmla="*/ 176400 w 228240"/>
                <a:gd name="textAreaTop" fmla="*/ 39600 h 173880"/>
                <a:gd name="textAreaBottom" fmla="*/ 1342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3886200"/>
            <a:ext cx="1218600" cy="1600200"/>
            <a:chOff x="3962520" y="3886200"/>
            <a:chExt cx="1218600" cy="1600200"/>
          </a:xfrm>
        </p:grpSpPr>
        <p:sp>
          <p:nvSpPr>
            <p:cNvPr id="104" name=""/>
            <p:cNvSpPr/>
            <p:nvPr/>
          </p:nvSpPr>
          <p:spPr>
            <a:xfrm>
              <a:off x="3962520" y="43434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4280" y="53337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38862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48320" y="3657600"/>
            <a:ext cx="1218600" cy="1600200"/>
            <a:chOff x="4648320" y="3657600"/>
            <a:chExt cx="1218600" cy="1600200"/>
          </a:xfrm>
        </p:grpSpPr>
        <p:sp>
          <p:nvSpPr>
            <p:cNvPr id="108" name=""/>
            <p:cNvSpPr/>
            <p:nvPr/>
          </p:nvSpPr>
          <p:spPr>
            <a:xfrm>
              <a:off x="4648320" y="41148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0080" y="51051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36576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419720" y="4038480"/>
            <a:ext cx="1218600" cy="1600200"/>
            <a:chOff x="4419720" y="4038480"/>
            <a:chExt cx="1218600" cy="1600200"/>
          </a:xfrm>
        </p:grpSpPr>
        <p:sp>
          <p:nvSpPr>
            <p:cNvPr id="112" name=""/>
            <p:cNvSpPr/>
            <p:nvPr/>
          </p:nvSpPr>
          <p:spPr>
            <a:xfrm>
              <a:off x="4419720" y="449568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480" y="548604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403848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76720" y="2743200"/>
            <a:ext cx="1218600" cy="1600200"/>
            <a:chOff x="3276720" y="2743200"/>
            <a:chExt cx="1218600" cy="1600200"/>
          </a:xfrm>
        </p:grpSpPr>
        <p:sp>
          <p:nvSpPr>
            <p:cNvPr id="116" name=""/>
            <p:cNvSpPr/>
            <p:nvPr/>
          </p:nvSpPr>
          <p:spPr>
            <a:xfrm>
              <a:off x="3276720" y="3200400"/>
              <a:ext cx="152280" cy="152280"/>
            </a:xfrm>
            <a:custGeom>
              <a:avLst/>
              <a:gdLst>
                <a:gd name="textAreaLeft" fmla="*/ 34560 w 152280"/>
                <a:gd name="textAreaRight" fmla="*/ 117720 w 15228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4190760"/>
              <a:ext cx="151920" cy="15264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920 h 152640"/>
                <a:gd name="textAreaBottom" fmla="*/ 1177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43400" y="2743200"/>
              <a:ext cx="151920" cy="152280"/>
            </a:xfrm>
            <a:custGeom>
              <a:avLst/>
              <a:gdLst>
                <a:gd name="textAreaLeft" fmla="*/ 34560 w 151920"/>
                <a:gd name="textAreaRight" fmla="*/ 117360 w 151920"/>
                <a:gd name="textAreaTop" fmla="*/ 34560 h 152280"/>
                <a:gd name="textAreaBottom" fmla="*/ 1177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010697explorations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038400" cy="480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871800" cy="482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571680"/>
            <a:ext cx="799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 was one of the major scientists who discovere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ffects a major Nuclear war would have on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50000">
              <a:srgbClr val="0000ff"/>
            </a:gs>
            <a:gs pos="100000">
              <a:srgbClr val="0000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41000"/>
            <a:ext cx="90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roughout his career he always protested the importance of searching for extra terrestrial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906640" cy="3733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43480" y="5406840"/>
            <a:ext cx="78966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here you see Sagan at the SETI (Search for extraterre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lligence) conference in 197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752200"/>
            <a:ext cx="22305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porting a r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roovy hairc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52:21Z</dcterms:created>
  <dc:creator>Autorised User</dc:creator>
  <dc:description/>
  <dc:language>en-US</dc:language>
  <cp:lastModifiedBy>Autorised User</cp:lastModifiedBy>
  <dcterms:modified xsi:type="dcterms:W3CDTF">2002-02-01T15:26:18Z</dcterms:modified>
  <cp:revision>4</cp:revision>
  <dc:subject/>
  <dc:title>Carl Sagan</dc:title>
</cp:coreProperties>
</file>