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BAC-8881-46E3-93AE-9CD9BC1F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6EA-011A-4C44-A301-4836690B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ABC-61AD-4F59-B8F5-0A45F1EA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0C4-6147-4552-B9D7-7CF4A059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3528-6368-4D76-B3BC-B55002FB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B33-A67B-4363-AD88-2834DF1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3319-9716-4E6A-A419-A5FCA6D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EA71-4BED-4AB0-81AE-EF74564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762A-EDB7-49B9-BC58-EC8864F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24C-C929-4059-9E71-E8E1597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5A5B-8327-4A21-8171-12C094E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F39-8FC3-4590-B7BC-A510F5A6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FE7-2969-4BD9-9D01-7A2EB914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05BC-FEFC-473D-8112-4AAEEDE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5AD-60ED-49E2-9BC2-9E80E99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D4A5-7CA7-4445-B732-EBA78BCE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12E-6170-4499-8F98-F227D222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1AD-93E3-474D-86A2-CBCC02C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AB7-AF89-4378-83D6-9D85E889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E2A-7286-4729-B8A6-4C95DEE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FE3-18E3-42D6-9DF2-6D3B294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C88-BA10-4163-910A-8ACE8DD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C07-94F1-4086-81D2-E6D75DB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A60-5A7F-454D-947E-73C5579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D735-2D21-4823-84AA-F93677B938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41E-34FE-4A80-8BDA-641CC52EF3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amalthea.html" TargetMode="External"/><Relationship Id="rId2" Type="http://schemas.openxmlformats.org/officeDocument/2006/relationships/hyperlink" Target="file:///amalthea.html" TargetMode="External"/><Relationship Id="rId3" Type="http://schemas.openxmlformats.org/officeDocument/2006/relationships/hyperlink" Target="file:///amalthea.html" TargetMode="External"/><Relationship Id="rId4" Type="http://schemas.openxmlformats.org/officeDocument/2006/relationships/hyperlink" Target="file:///amalthea.html" TargetMode="External"/><Relationship Id="rId5" Type="http://schemas.openxmlformats.org/officeDocument/2006/relationships/hyperlink" Target="file:///amalthea.html" TargetMode="External"/><Relationship Id="rId6" Type="http://schemas.openxmlformats.org/officeDocument/2006/relationships/hyperlink" Target="file:///io.html" TargetMode="External"/><Relationship Id="rId7" Type="http://schemas.openxmlformats.org/officeDocument/2006/relationships/hyperlink" Target="file:///io.html" TargetMode="External"/><Relationship Id="rId8" Type="http://schemas.openxmlformats.org/officeDocument/2006/relationships/hyperlink" Target="file:///europa.html" TargetMode="External"/><Relationship Id="rId9" Type="http://schemas.openxmlformats.org/officeDocument/2006/relationships/hyperlink" Target="file:///europa.html" TargetMode="External"/><Relationship Id="rId10" Type="http://schemas.openxmlformats.org/officeDocument/2006/relationships/hyperlink" Target="file:///ganymede.html" TargetMode="External"/><Relationship Id="rId11" Type="http://schemas.openxmlformats.org/officeDocument/2006/relationships/hyperlink" Target="file:///ganymede.html" TargetMode="Externa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Joe 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124080" y="228600"/>
            <a:ext cx="32943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upite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31719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 biggest planet in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ing at the planet that is 140,000 km big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he fourth brigh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amazing storm on the pl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is bigger than the Earth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600880" cy="296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365760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fth planet nearest the Su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wice as massive as all the planets combined!!!!!!!!!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57148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also has rings like Satur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much fain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33396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is also a very cold plane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emperature is -150°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255840"/>
            <a:ext cx="29322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has 16 mo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etis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Adrast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Amalth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,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Thebe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Io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Europa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Ganymede</a:t>
            </a:r>
            <a:r>
              <a:rPr b="0" lang="en-GB" sz="32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llisto,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Led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Himali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Lysithe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Elara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ank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Carm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Pasiphae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Sin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t takes 10 hours for 1 spi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12 years to orbit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64780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 is the end of my pres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nkyou!!!!!!!!!!!!!!!!!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2300400" cy="214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0:26:38Z</dcterms:created>
  <dc:creator>Autorised User</dc:creator>
  <dc:description/>
  <dc:language>en-US</dc:language>
  <cp:lastModifiedBy>Autorised User</cp:lastModifiedBy>
  <dcterms:modified xsi:type="dcterms:W3CDTF">2001-12-21T13:09:46Z</dcterms:modified>
  <cp:revision>2</cp:revision>
  <dc:subject/>
  <dc:title>No Slide Title</dc:title>
</cp:coreProperties>
</file>