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B26-79C9-45CC-89B4-6F2290B6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A9D-0304-4AAD-A541-D7250606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A4E-A9F9-4343-B244-8120358A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3125-C709-43A8-996D-C88A0CB2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C173-BE9B-42A9-8FA8-DB4D6F06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72BA-A52A-4691-82F3-549F3032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7C21-5C44-4097-9688-9FE7DD36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0EBA-15B5-4FBB-9F4F-E4E35C03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E872-C976-4E60-B622-3F637BD6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6685-75C7-4F7C-BEAA-AA6A6A4C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B2F6-254A-4598-8FA6-E070C0AA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6EC-B616-44B9-818E-E2617998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900D-99A9-4F12-9D65-15A8EA76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3533-A8D1-4669-80FE-2DF322FE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5782-A4D3-4CAE-B0A5-FCC05C1A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9226-8C84-452B-9487-D58CA722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06BB-C00F-4F50-9FD9-6C685D8E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01E-9B2C-4DD5-98D7-EDD8E271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CF1-9931-40F1-91F9-C5231A9D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64F-62A2-4BD5-8511-A8FDF577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9B2-7CE0-4889-92FD-D1AE18A0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7F7-6E28-4A16-A32B-5FB9C4AB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B6C-1038-4BEC-8F39-95030134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8E39-D3CB-4ED0-9F31-6414F6F7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46D0-71FE-411F-A4AE-285A0A1EF67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025A-EE2B-4387-84FF-F0E197A44BC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atur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PowerPoint Presentation by Daniel Kno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saturn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25002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aturn: The begin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turn was first spotted by the ancient Greeks and was referred to as Cronus A Greek G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turn is 9 times bigger than the Earth!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alileo was the first person to see the rings of Saturn though his telescope.  The first site of the wonderful secret of Satur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Rings of Satur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turn's rings are mainly made of ice and rocks of different sizes. Each orbiting the planet like a miniature moon. The impressive rings are very insubstantial, possibly only one kilometer thick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Saturn is tilted on it’s axis we occasionally pass through the plane of it’s rings making them vanish from view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72200" y="685800"/>
            <a:ext cx="8064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Moons of Satur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turn has many moons but the main ones are Dione, Titan, Tethys and Enceladus. All are made of rock and ice but none are the size of the our mo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14800" y="4267080"/>
            <a:ext cx="17524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aturn: A ball of g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turn is mainly made of Methane and Hydrogen g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derneath the ball of gas is the core which is the same size of the core of the ear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Saturn is a ball of gas, if you find a ocean big enough it will float in i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990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aturn’s orbi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turn’s orbit around the sun takes 28.5 Earth yea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ice in it’s orbit the rings disappear from our view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l Lif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ve an example or real life anecdo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ympathize with the audience’s situation if appropri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This Mea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a strong statement that summarizes how you feel or think about this top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ize key points you want your audience to rememb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0152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xt Step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ize any actions required of your audi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ize any follow up action items required of yo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0:34:27Z</dcterms:created>
  <dc:creator>Autorised User</dc:creator>
  <dc:description/>
  <dc:language>en-US</dc:language>
  <cp:lastModifiedBy>Autorised User</cp:lastModifiedBy>
  <dcterms:modified xsi:type="dcterms:W3CDTF">2002-02-05T13:39:28Z</dcterms:modified>
  <cp:revision>4</cp:revision>
  <dc:subject/>
  <dc:title>Saturn</dc:title>
</cp:coreProperties>
</file>