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946-93FD-445A-AF7A-AF07990C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538-DDFD-49BD-BE87-D013FB1F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238-37E0-48EA-B316-E0E8384C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8E9-BBDB-4889-8692-9B565EA1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F446-68F6-49E7-8161-B37F443B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BE23-B198-42DD-A440-2C47E72C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D086-C813-4568-ACFB-77C395B8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8F10-0CEA-4F12-AF85-A0D536FC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1A4C-E665-41AE-A7E3-7CEB0BA9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746A-58EE-4127-B14E-6B901D8E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3485-28B8-42E9-8100-80BD6F81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9D3-A0A0-42AD-8A64-00EC6C1B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173C-0EB0-4987-8BDA-95044DA9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1405-0B4E-4559-B3F7-F8480BFD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6DB9-9CDB-40ED-B25F-D2A33533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BCD3-9EDD-4226-B7F5-C78CE61B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2E67-3104-4E86-AD59-44FD7C17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262-C0EA-4A6C-BB99-26BE11F6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925-3E92-436A-B28B-745F75C3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59F-F678-4B1C-8CEA-7583FADF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8CD-5AFD-41AD-82E9-F0044B9F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D61-918C-41F0-A102-D7139E33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D2D-D452-410D-B415-346AFB2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56B-1E64-45FF-B34C-8B8FB2AA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FB04-36F4-433A-BD4F-E576E299413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03E7-3928-4FBF-BFAE-7D09F9C62FE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tur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PowerPoint Presentation by Daniel Kno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saturn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turn: The begin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 was first spotted by the ancient Greeks and was referred to as Cronus A Greek G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 is 9 times bigger than the Earth!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lileo was the first person to see the rings of Saturn though his telescope.  The first site of the wonderful secret of Satur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Rings of Satur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's rings are mainly made of ice and rocks of different sizes. Each orbiting the planet like a miniature moon. The impressive rings are very insubstantial, possibly only one kilometer thick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Saturn is tilted on it’s axis we occasionally pass through the plane of it’s rings making them vanish from view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8064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Moons of Satur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 has many moons but the main ones are Dione, Titan, Tethys and Enceladus. All are made of rock and ice but none are the size of the our mo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17524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turn: A ball of g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 is mainly made of Methane and Hydrogen g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neath the ball of gas is the core which is the same size of the core of the ear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Saturn is a ball of gas, if you find a ocean big enough it will float in i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90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turn’s orbi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turn’s orbit around the sun takes 28.5 Earth yea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ice in it’s orbit the rings disappear from our view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l Lif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ve an example or real life anecdo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mpathize with the audience’s situation if appropri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This Me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a strong statement that summarizes how you feel or think about this top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ize key points you want your audience to remem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xt Step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ize any actions required of your audi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ize any follow up action items required of yo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0:34:27Z</dcterms:created>
  <dc:creator>Autorised User</dc:creator>
  <dc:description/>
  <dc:language>en-US</dc:language>
  <cp:lastModifiedBy>Autorised User</cp:lastModifiedBy>
  <dcterms:modified xsi:type="dcterms:W3CDTF">2002-02-05T13:39:28Z</dcterms:modified>
  <cp:revision>4</cp:revision>
  <dc:subject/>
  <dc:title>Saturn</dc:title>
</cp:coreProperties>
</file>